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8F8-E452-4803-88BE-D49D6E3C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E8E-1992-429E-8054-84FA6A16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D30-0D1D-451F-85D8-B1274BFB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099-237B-49B6-A196-425309BA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3D5B-ABD7-4D16-A3EF-46257581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3459-4639-44F2-B935-C4E8DC13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10BF-C9F0-4A5F-B666-90C8CC09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B440-B7D8-4B6E-94E3-CB8B1470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CBD8-A3F1-4661-8421-F6559140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959B-6B70-4DEA-ACDE-8F210B4D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B77D-BEDF-4825-BA1C-FEF9FA71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8DD-2803-47B1-96AF-3F568E7B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CC45-4B38-4DA5-AEEF-555FA150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9B91-4C98-4C17-970D-380EFF8B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47F3-27A8-46ED-B61E-A52482A5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08C3-4B3D-457D-9000-EBC6FC20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B54A-3A53-4621-9225-34E646B6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D55-5153-4589-8651-067520BE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383-8987-4A59-8682-0CB0592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7CA-78EB-457B-86D7-B3C10D86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0C8-4435-44CE-A604-CED5C006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CED-4A14-4645-BD26-7F297A7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041-F497-4E40-B96B-D2CE1C4E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C9C-F9AA-4ED8-B2BE-323BCF38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6135-2DCE-4A8E-8290-9266CE05CE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F458-02A9-4F43-AFE5-77CA2C9867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vement in Russi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Quynh Vu and Ethan S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aports in Russ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ost important are Kaliningrad and St. Petersbur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liningrad is Russia’s only Baltic port that remains free from ice year 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ailway Transport in Russ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ilway transport in Russia mostly under the control state-run Russian monopo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railroads are in western/southern Russ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rans-Siberian railroad is in southern Russ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ilroads are the most dominant mode of transport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 has one of the world’s longest webs of railwa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33840" y="1600200"/>
            <a:ext cx="4038840" cy="24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irpo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2002 Russia had a total of 2,743 air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length of airlines in Russia exceeds 600,000 kilo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oa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95 Russia had only 489,000 kilometers of roads open for public trave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21:00Z</dcterms:created>
  <dc:creator> </dc:creator>
  <dc:description/>
  <dc:language>en-US</dc:language>
  <cp:lastModifiedBy> </cp:lastModifiedBy>
  <dcterms:modified xsi:type="dcterms:W3CDTF">2010-12-15T14:25:39Z</dcterms:modified>
  <cp:revision>5</cp:revision>
  <dc:subject/>
  <dc:title>Seaports in Russia</dc:title>
</cp:coreProperties>
</file>